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DCEC-B69A-4CE2-8977-F3D82EC564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7760" cy="40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84760" y="0"/>
            <a:ext cx="2973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4760" y="8634240"/>
            <a:ext cx="29732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634240"/>
            <a:ext cx="297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776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BE6-2063-4A50-ADEE-C217F964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747-F0E9-4D3F-B805-84C51A78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09A-CA17-43C0-8255-C4273078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CA9-CE81-40FE-8098-66424FAB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38F-B11B-43DB-AD5F-EECA009C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279-BBF3-4BC1-9FBE-4B36A180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6E1-76B5-4FD3-92BC-520F6F39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E10-5065-4371-89B8-C9EFD3BE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298-5275-4380-B376-AF7B590D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9BA-E9A0-47DE-91E1-42E49BE8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727-F090-4461-AAF1-B94DFE68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4B1-4C2C-40D5-9248-05B2016C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211C-1BAB-4675-A380-524F7C987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62280" y="263520"/>
            <a:ext cx="181944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 2E10 COURSE MA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236000" y="5111640"/>
            <a:ext cx="1155600" cy="1139760"/>
            <a:chOff x="7236000" y="5111640"/>
            <a:chExt cx="1155600" cy="1139760"/>
          </a:xfrm>
        </p:grpSpPr>
        <p:sp>
          <p:nvSpPr>
            <p:cNvPr id="52" name=""/>
            <p:cNvSpPr/>
            <p:nvPr/>
          </p:nvSpPr>
          <p:spPr>
            <a:xfrm>
              <a:off x="7236000" y="5111640"/>
              <a:ext cx="1155600" cy="113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4400" y="5119560"/>
              <a:ext cx="7448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316640" y="5869080"/>
            <a:ext cx="98748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1040" y="5335560"/>
            <a:ext cx="453960" cy="2260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D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600" y="4965840"/>
            <a:ext cx="66657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he AC,  Modules A-F are taught sequential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he RC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.  Module A must be completed first in Distributive Learning (dL) before attending AD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.  Modules B is a prerequisite and is not taught in the RC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.  Modules C-F are taught using the round robin method.  Students will be divided into four equal groups and must rotate sequenti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 depicted by the dashed lines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.  The Administrative module is administered within the TASS Battalion Commander’s guidance. Commandant’s time and physical fitnes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raining within this module are conducted throughout the cour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Focus Training is a stand alone POI, refer to the POI for additional inform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248520"/>
            <a:ext cx="136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E1CMPB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/07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4240" y="6249960"/>
            <a:ext cx="42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5602320"/>
            <a:ext cx="711360" cy="22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 ONLY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3840" y="542520"/>
            <a:ext cx="8896320" cy="4669200"/>
            <a:chOff x="123840" y="542520"/>
            <a:chExt cx="8896320" cy="4669200"/>
          </a:xfrm>
        </p:grpSpPr>
        <p:grpSp>
          <p:nvGrpSpPr>
            <p:cNvPr id="61" name=""/>
            <p:cNvGrpSpPr/>
            <p:nvPr/>
          </p:nvGrpSpPr>
          <p:grpSpPr>
            <a:xfrm>
              <a:off x="3481560" y="4579920"/>
              <a:ext cx="963360" cy="631800"/>
              <a:chOff x="3481560" y="4579920"/>
              <a:chExt cx="963360" cy="631800"/>
            </a:xfrm>
          </p:grpSpPr>
          <p:sp>
            <p:nvSpPr>
              <p:cNvPr id="62" name=""/>
              <p:cNvSpPr/>
              <p:nvPr/>
            </p:nvSpPr>
            <p:spPr>
              <a:xfrm>
                <a:off x="3481560" y="4579920"/>
                <a:ext cx="963360" cy="631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08280" y="4662360"/>
                <a:ext cx="731160" cy="46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ITNE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RAINING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8077320" y="1662120"/>
              <a:ext cx="942840" cy="689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UTPROCESS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54120" y="2535120"/>
              <a:ext cx="23040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0" y="0"/>
                  </a:moveTo>
                  <a:lnTo>
                    <a:pt x="14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52760" y="3987720"/>
              <a:ext cx="37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3840" y="2154240"/>
              <a:ext cx="869760" cy="689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PROCESS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3040" y="2155680"/>
              <a:ext cx="1059120" cy="6973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URSE INTRODU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11240" y="253512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87760" y="253512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5480" y="2154240"/>
              <a:ext cx="1212840" cy="697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E A MOTOR TRANSPORT VEHICLE (MTV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14920" y="878040"/>
              <a:ext cx="1212840" cy="6973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E A SCOOP LOAD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14920" y="3611520"/>
              <a:ext cx="1212840" cy="6973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E A MOTORIZED SCRAP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14920" y="2678040"/>
              <a:ext cx="1212840" cy="709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E A CRAWLER 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34000" y="1763640"/>
              <a:ext cx="1212840" cy="6973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E A MOTORIZED GRAD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18040" y="253512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343400" y="1241280"/>
              <a:ext cx="0" cy="12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46640" y="1239840"/>
              <a:ext cx="37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6640" y="2135160"/>
              <a:ext cx="37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3400" y="2538360"/>
              <a:ext cx="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6640" y="3068640"/>
              <a:ext cx="37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92720" y="2503440"/>
              <a:ext cx="0" cy="184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13240" y="1598760"/>
              <a:ext cx="0" cy="169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3640" y="341784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265720" y="4332240"/>
              <a:ext cx="1440" cy="281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75440" y="4606920"/>
              <a:ext cx="9936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6294240" y="542520"/>
              <a:ext cx="6120" cy="4033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331960" y="582480"/>
              <a:ext cx="95724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43480" y="5763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88120" y="2004840"/>
              <a:ext cx="36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66560" y="4896000"/>
              <a:ext cx="298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3680" y="2865600"/>
              <a:ext cx="0" cy="20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44920" y="4896000"/>
              <a:ext cx="27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7224840" y="2349360"/>
              <a:ext cx="9360" cy="256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696000" y="1662120"/>
            <a:ext cx="1067040" cy="68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FT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73840" y="202392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9T12:36:42Z</dcterms:created>
  <dc:creator>ron</dc:creator>
  <dc:description/>
  <dc:language>en-US</dc:language>
  <cp:lastModifiedBy>timothy.blake1</cp:lastModifiedBy>
  <cp:lastPrinted>1998-09-25T20:18:30Z</cp:lastPrinted>
  <dcterms:modified xsi:type="dcterms:W3CDTF">2006-04-10T16:43:45Z</dcterms:modified>
  <cp:revision>21978</cp:revision>
  <dc:subject/>
  <dc:title>No Slide Title</dc:title>
</cp:coreProperties>
</file>